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3C8-CC4E-4080-BFEF-98DE511B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D32-C34F-4150-80E9-A48B2BAE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D65-33A5-4BFE-8F68-784EA0DB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E78-EE72-4668-B482-949C72D3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4B6-89A4-4C0C-BACA-D5994966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98F-2A80-4CAA-B55B-4709DD9E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7B7-E5D8-43BC-BCAB-8A2299E5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FED6-5103-4252-ABFA-989123B3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BDD-8F34-4041-A314-E9DEBBDD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665-9FC7-4837-8FE1-021420F1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DB1-4E2D-44B9-920F-7A6F8790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DD22-D088-433F-8DD3-7411E6FA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0181-B49B-4315-AD5F-C0E5B2B96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3124080"/>
            <a:ext cx="58672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D Java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335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114300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828800"/>
            <a:ext cx="2982960" cy="53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D REST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5335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1430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3623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5257800"/>
            <a:ext cx="762120" cy="99072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4267080"/>
            <a:ext cx="1752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O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36576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6095880"/>
            <a:ext cx="609480" cy="45720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o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6095880"/>
            <a:ext cx="609480" cy="45720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ow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472428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54864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124080"/>
            <a:ext cx="10666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2R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533520"/>
            <a:ext cx="9144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m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14300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733920"/>
            <a:ext cx="914400" cy="16761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54280" y="-31680"/>
            <a:ext cx="186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OBD 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March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50292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WL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153280" y="4191120"/>
            <a:ext cx="533520" cy="609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r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b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w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0" idx="3"/>
            <a:endCxn id="62" idx="1"/>
          </p:cNvCxnSpPr>
          <p:nvPr/>
        </p:nvCxnSpPr>
        <p:spPr>
          <a:xfrm>
            <a:off x="7620120" y="4495680"/>
            <a:ext cx="53352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61" idx="3"/>
            <a:endCxn id="62" idx="2"/>
          </p:cNvCxnSpPr>
          <p:nvPr/>
        </p:nvCxnSpPr>
        <p:spPr>
          <a:xfrm flipV="1">
            <a:off x="8153280" y="4800600"/>
            <a:ext cx="267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546840" y="1828800"/>
            <a:ext cx="105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PARQ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over 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9200" y="1295280"/>
            <a:ext cx="5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3505320"/>
            <a:ext cx="1752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D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33720" y="5638680"/>
            <a:ext cx="761760" cy="99072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5486400"/>
            <a:ext cx="762120" cy="99072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3581280"/>
            <a:ext cx="58676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D Java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5335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11430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286000"/>
            <a:ext cx="2982960" cy="53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D REST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5335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114300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28195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5257800"/>
            <a:ext cx="762120" cy="99072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41148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4724280"/>
            <a:ext cx="2057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Jena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41148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5638680"/>
            <a:ext cx="1447920" cy="9144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riple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51814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4724280"/>
            <a:ext cx="1752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O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41148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6095880"/>
            <a:ext cx="609480" cy="45720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o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6095880"/>
            <a:ext cx="609480" cy="45720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ow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51814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51814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411480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1148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24840" y="426708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Q2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3581280"/>
            <a:ext cx="10670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2R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33520"/>
            <a:ext cx="9144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m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1430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4191120"/>
            <a:ext cx="685800" cy="1218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22:45:09Z</dcterms:created>
  <dc:creator>Chris Mungall</dc:creator>
  <dc:description/>
  <dc:language>en-US</dc:language>
  <cp:lastModifiedBy>Chris Mungall</cp:lastModifiedBy>
  <dcterms:modified xsi:type="dcterms:W3CDTF">2008-03-18T21:26:22Z</dcterms:modified>
  <cp:revision>39</cp:revision>
  <dc:subject/>
  <dc:title>The NCBO Open Biomedical Ontology Database</dc:title>
</cp:coreProperties>
</file>